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B9B-E2CD-4D13-8AB7-014FF136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4BA-569D-4813-A623-EBBCBB4C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BB3-7A8D-4553-8E24-47926988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594-5740-4531-A10D-279DB5DD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ED9-CA33-4BA4-9E53-7C103F01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1B5-3FC6-43B4-8A12-4D405462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44C-1E0C-4E2B-9F55-5C0AA061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DE3-9980-45E3-9E2E-17D2AB61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452-3C03-425B-BE23-832B4AD5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AD4-A386-4795-B87A-D6B91063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276-F686-463F-8855-5E64A9E2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B5B-78EC-41DF-8D4B-10CE9577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9203-109E-424C-A7F2-43C3E14AB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2142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Педагогический совет «Пути формирования информационной и коммуникативной компетенции в образовательном пространстве школ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нализ урока в рамках  диагностики качества реализации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ема урока:Г. В. Черноголов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«Сказка об одном зернышк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ласс:   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омпетенция: ключевые компетенции: коммуникативная, информационная, самоменеджм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спект: 1. публичное выступление, диалог, продуктивная групповая коммуник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2. извлечение первичной информации, обработка первичной информации, обработка вторичной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3. оценка деятельности и оценка собственного продви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МО     гуманитарного цик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ГУ  СОСШПА № 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165384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е на литературную тем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Чтобы ты сделал, если бы наше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олшебный меч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мешок с золот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зернышк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Чему учит «Сказка об одном зернышке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то из героев «Сказки» понравился и почем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удесное рядом с н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Рисунок к произведен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акими затруднениями столкнулись при выполнении зада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предлагаете пути их преодоле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0" y="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 – конспект урока по тем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казка об одном зернышке»       Г.В. Черноголов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ительный урок по разделу «Фольклор и литература 20 век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едение для чтения и обсуждения. 1 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еспечить усвоение и осмысление содержания текста сказки, ее идейно-гуманистической направленности и общечеловеческого смыс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должить работу над литературными терминами: тема, идея, художественный образ, портрет героя, сказка литературная, художественно-изобразительные средств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продолжить формирование общеучебных уме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с книгой, словаре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план ответа, компози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ясно и точно выражать свои мысл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в группе, пар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ценивать свою деятельнос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звивать информационную компетенцию. Аспек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звлечение первичной информ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звлекают информацию по заданному вопросу из текста, содержащего художественный образ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торичная обработка информации, систематизирование извлеченной информации  в рамках заданной струк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работка информации (излагают полученную информацию в контексте решаемой задачи,  делают выводы и приводят аргументы или данные для подтверждения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развивать коммуникативную компетенцию в аспекта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убличного выступления (используют вербальные средства для своего выступлени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алога (высказывает мнение и запрашивает мнение партнера в рамках диалог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дуктивная групповая коммуникация  (учащиеся самостоятельно договариваются о правилах и вопросах для обсуждения в соответствии с поставленной перед группой задачей, учащиеся следят за обсуждением и обобщают, фиксируют, распределяют и принимают на себя обязанности в рамках выполнения групповой работы. Они задают вопросы на уточнение и понимание идей,  уточняют идеи друг друг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1000080"/>
          <a:ext cx="9144000" cy="5873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 ЗУНов на в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ЗУНов  на вы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ния теоретико- литературные: литература и фольклор, жанр – сказка литературная, тема и идея произ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ко-литературные : ФИО автора, биографические сведени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оретико-литературные: Составление модели произведени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хемы компози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крыть тему и идею данной сказк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жан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характеризовать героя, составлять простой план, выразительно читать произведение, сравнивать литературных геро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охарактеризовать героев сказки на основе их поступков и взаимоотношений с другими персонажами, сравнивать литературных героев, выявлять позицию автора, его отношение к персонажам, передавать индивидуальное восприятие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1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готовит план выступления, соблюдает нормы публичной речи и регла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основное содержание информации в монологе, отвечает на вопросы и задает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-групповая коммуникация: учащиеся самостоятельно следуют заданной процедуре группового обсуж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еся распределяют и принимают на себя обязанности в рамках выполнения группов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использует вербальные средства и невербальные средства или наглядные материал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 основное содержание информации в диалоге, монологе, группе. Высказывает мнение (суждение) и запрашивает мнение партнера в рамках диал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 – групповая коммуникация: учащиеся следят за соблюдением процедуры обсуждения, обобщают. Фиксируют решения в конце работы, они сопоставляют свои идеи с идеями других членов группы, развивают и уточняют идеи друг д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1"/>
          <p:cNvSpPr/>
          <p:nvPr/>
        </p:nvSpPr>
        <p:spPr>
          <a:xfrm>
            <a:off x="0" y="504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вивать интерес к изучению художественной литера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спитывать вдумчивого читателя, внимательного к слов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овать эмоционально-ценностные отнош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3059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64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извлечения первичной информации: извлекает информацию по заданному вопросу из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ервичная обработка информации: систематизирует извлеченную информацию по заданной те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 вторичная обработка информации: делает вывод на основе полученной информации и приводит несколько аргументов для его подтвер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ценка деятельности,  осуществляет текущий контроль сво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указывает сильные и слабые стороны свое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называет трудности, с которыми столкнулись при решении проблемы и предлагают пути их преодол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0" y="3089880"/>
            <a:ext cx="914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а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точки-задания для самостоятельной работы в групп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ст по произведен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оделирован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сследовательск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 ИК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ы самоконтро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ловесные (диалог и монолог, комментирование лексического значения слов, озвучивание схемы, устное высказывание на тему, передача собственного восприятия ХП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обуч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М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н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руппов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ронтальна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урока – комбинированный (урок изучения темы, закрепления и контр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3600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-конспект уро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ивационный эта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: если вы успешно справитесь с заданием, то  научитесь правильно поступать в сложных жизненных ситуациях, делать добро, прощать об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ем тему урока и запишем в тетрад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определим цели уро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итать и обсуждать произвед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ализировать поступки героев и их характ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ять тему и идею произве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композиционную сх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ление подготовленного учащегося о Г.В. Черноголови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КТ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атели Казахст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(192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Галина Васильевна Черноголовина"/>
          <p:cNvPicPr/>
          <p:nvPr/>
        </p:nvPicPr>
        <p:blipFill>
          <a:blip r:embed="rId1"/>
          <a:stretch/>
        </p:blipFill>
        <p:spPr>
          <a:xfrm>
            <a:off x="7543800" y="1428840"/>
            <a:ext cx="1600200" cy="2133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358776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ый казахстанский писатель И.П.Шухов в январе 1966 года писал: «С большой душевной готовностью и охотой рекомендую принять в члены Союза писателей СССР Черноголовину Галину Васильевну - автора нескольких превосходных детских книжек, вышедших на Дальнем Востоке, в Алма-Ате, Москве… Горячо верю в ее хорошее литературное будущее». Но Черноголовина Г.В. известна в Казахстане не только как детская писательница, но и как талантливый публицист, автор повестей и романов о людях Целины. Несколько лет она была заместителем главного редактора журнала «Простор2, председателем Совета по русской литературе в Союзе писателей Казахстана. В годы перестройки вошла в общественно-литературное движение «Апрель», способствующее укреплению в обществе принципов демократии, гражданского согласия и ми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родилась 15 марта 1929 года в селе Знаменском Омской области. Окончила Хабаровский педагогический институт. Преподавала русский язык и литературу в сельской школе. Работала на радио, в районных газетах Хабаровского и Краснодарск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35280"/>
            <a:ext cx="9144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ев. В 1963 году переехала с семьей в г. лма-Ату. С середины 1990-х годов живет 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деятельность Г.Черноголовиной берет начало на Дальнем Востоке. В 1960 году в Хабаровском книжном издательстве выходит ее первая книга – сборник рассказов для детей о людях таежного села «Цветы голубики». Через два года появились еще три книжки для детей: «Веселые странички о братце и сестричке», «Капельки амурские», «Мальчик-Мазайчик». Затем: «Ванька-встанька Новосел» (1965), «Лодка в протоке» (1966), «Свеча за красным стеклом» (1968), «Теплая краюшка» (1972), «Робот на час» (1968) и др. Всего в авторстве Г.В.Черноголовиной выпущено 15 изданий для детей разных жанров, около половины из них вышло в Москве, в издательстве «Детская литература». Они стали заметным явлением в казахстанской и общесоюзной литературе для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ение «Сказки об одном зернышке» (стр. 340-34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равилось вам произведение? Кто из героев понравился, чем им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ая работа: ветрогар, продуб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рогар – «продубела кожа на вет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беть – сделаться крепкой, как кора д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2         Анализ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по групп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форме пятистишия составить характеристику младшего б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Илюшу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Тоню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модель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– сказка -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схему композиции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ка в сказке. Зачин, испытание, возвра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выполненного задания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Упрямый, но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Огорчается, выращивает, про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Семь сел, семь городов прокормлю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Труже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И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Младший, хитрый – прехит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Любит, выдумывает, забо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Вдруг этот колос волшебны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Фант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0" y="3996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То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Старшая, весел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Спорит, заботиться, люби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«Потом опять веснушки заметно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Помошни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одель художественного мира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Diagram 11"/>
          <p:cNvGrpSpPr/>
          <p:nvPr/>
        </p:nvGrpSpPr>
        <p:grpSpPr>
          <a:xfrm>
            <a:off x="3929040" y="301680"/>
            <a:ext cx="5486400" cy="2341440"/>
            <a:chOff x="3929040" y="301680"/>
            <a:chExt cx="5486400" cy="2341440"/>
          </a:xfrm>
        </p:grpSpPr>
        <p:pic>
          <p:nvPicPr>
            <p:cNvPr id="53" name="Схема 14" descr=""/>
            <p:cNvPicPr/>
            <p:nvPr/>
          </p:nvPicPr>
          <p:blipFill>
            <a:blip r:embed="rId1"/>
            <a:stretch/>
          </p:blipFill>
          <p:spPr>
            <a:xfrm>
              <a:off x="3929040" y="301680"/>
              <a:ext cx="548640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14"/>
            <p:cNvSpPr/>
            <p:nvPr/>
          </p:nvSpPr>
          <p:spPr>
            <a:xfrm rot="16200000">
              <a:off x="381024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Фокус»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агнитофоно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AutoShape 13"/>
            <p:cNvSpPr/>
            <p:nvPr/>
          </p:nvSpPr>
          <p:spPr>
            <a:xfrm rot="16200000">
              <a:off x="729828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лосок в посылк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5454720" y="448560"/>
              <a:ext cx="2490120" cy="151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антастический мир «Сказки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20"/>
          <p:cNvSpPr/>
          <p:nvPr/>
        </p:nvSpPr>
        <p:spPr>
          <a:xfrm>
            <a:off x="212400" y="2550240"/>
            <a:ext cx="7504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озиция произведения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часть. Реальность. Фоку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часть. Зачин сказ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часть. Трудная задача для бра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часть. Испытание братьев, их возвращ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часть. Развязка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6 часть. Реальность. Колос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тро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ст с последующей проверкой по ключ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матический тест по произведению Г.В Черноголовиной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. Определите жанр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Расска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Фольклорная  сказ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Литературная сказ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. Укажи персонажей данного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Пет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Ксения Сергеев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 Илюш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36360"/>
            <a:ext cx="91440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акой прием использует ав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ы медлишь? – говорит ему зернышко. – Бросай меня в земл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Олицетв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Антите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то из братьев нашел волшебное зернышк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тар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ред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Млад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е выражение лица было у Илюши, когда он решил показать  Фоку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Хитрое-прехитр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Печаль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Радост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акую трудную задачу выполнил младший брат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Куп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Накорм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Покор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ой прием использует авто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ой выдумщик! – засмеялась Тоня. – Все бы ему, как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Гипербо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Эпит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Почему младший брат принял старших  к себ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ерпелив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очувствует братьям в бе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умеет прощ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Что символизирует зернышко в произведении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руд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терп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ожидание чу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роверка по ключ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286000" y="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- 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–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– А, Б,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6:16:35Z</dcterms:created>
  <dc:creator>LAN_OS</dc:creator>
  <dc:description/>
  <dc:language>en-US</dc:language>
  <cp:lastModifiedBy>LAN_OS</cp:lastModifiedBy>
  <dcterms:modified xsi:type="dcterms:W3CDTF">2010-12-04T17:00:43Z</dcterms:modified>
  <cp:revision>5</cp:revision>
  <dc:subject/>
  <dc:title>Слайд 1</dc:title>
</cp:coreProperties>
</file>